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AF89-60F9-4CA6-BC2B-C1144E7F27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B6F-CFEA-4EFD-9A0D-7DD265C9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F6E-FBD4-43C2-A821-4538ED87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E35-9FA2-401D-8965-1ED15986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F01-9754-4B88-A9CF-1B91969B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F46A6-3ACD-407F-A87F-C0DE8178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E549E-968B-4E24-B68B-EDB1CEE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F2295-2CCC-48C4-9C41-453532DF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FF4C8-3B8C-4C54-9398-5995E333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7BB4A-A95E-43D2-8E8F-B10FA6EE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B3C97-8FA1-4D98-9DE4-36C55F53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9509E-E309-443E-A4BF-81B461D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767-7BE2-47D4-BA3D-D99BC494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0CF33-DF55-40B4-BED6-B84DBB6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8E6EF-95D4-4354-875D-BFC620C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42315-6A72-484C-A1F1-8508847F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C1303-2F91-4821-B501-DC2C1573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0DFA4-8078-459B-9FC3-D148B1CB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6A72-0F3B-4329-802D-A1CAA84C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2793-CF3B-41CA-8E2F-0BEE29A3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1B51-19B1-4201-874B-CC6F40C3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A755-0A9A-4C08-A1BD-D3CA06A7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1055-B809-4FE0-A165-A805C64F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851-B9FB-4272-86C5-2979E546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ADE6-0E76-4E96-9C14-858E0B94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ADFE-1D67-4DFB-A4FD-2345412A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004A-E75B-4DA1-89F4-D2C7FC44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CC9A4-83C9-4374-8477-C9FB4033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DCD9-7B17-49FB-B416-D229A4BD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E041-F7F9-4366-BCF0-C312A97C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05F8-D133-48F8-89AF-CCEA1C40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3CC4-BD26-4FBD-92D2-967F77AA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CE6C-ED75-47CF-BF9D-312E2AA1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AD9A-42E6-4DE2-8971-38954E9D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580-BE60-4110-A6C9-BA35CD3D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C23B-30C8-40B2-BB0A-B00A882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50D5B-9498-4D5A-AA2A-3ADE063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A8F7-8F08-4500-A6F6-396C7462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6DE9-019F-4C95-B157-91ABFCE5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07E1-25CF-4B29-A1C3-483490C9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CDF6-00A1-4602-9905-E2B25A5C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E0BB9-2F8F-4668-97B3-3DDA7106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F65E-72CB-4552-87AD-F8676789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9E06-1C02-4F1D-9072-018FAF65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0258-A883-4463-97F8-8AAD629F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969-8012-4D32-BD00-8B7C9882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A79CA-2120-4596-93D2-2EDE3E2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AC071-7AB7-4223-98CD-CB24D4A7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7FA8-9776-443B-95BB-F9275C13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15483-2E7F-45A2-850F-B117C04C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416EC-78C8-4B34-AFC0-D7CD7E91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7B829-7FAA-4F9B-ADBB-F1CD6AA7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E4FC8-D277-48E5-AA78-2919556A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C3803-BA2A-4071-9277-1ACAE166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0DD26-E8D6-41F9-B48D-C2E0E20B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F40C9-2BB2-4D89-88EA-DB2D6B58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520-72BA-4462-A270-8E5F8C4B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439E-FBED-4DA5-9722-F1ED0C63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DAB-84AA-4EED-B1BA-ADF26AE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34D-F7CE-408F-86CF-C9E52B7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65D-8EE6-4F12-8836-F9E69C71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F29-E878-4900-AEC4-51FF979B2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4402-C1B2-4FE1-9FEE-0B65ECA8EE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6A42-D73C-41C3-B712-4DC9C6BF64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04E9-6FCD-47B4-94C1-CFA1FCC385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59E8-850B-4395-8DCB-C7373F188E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RomaK</cp:lastModifiedBy>
  <dcterms:modified xsi:type="dcterms:W3CDTF">2015-09-04T09:22:06Z</dcterms:modified>
  <cp:revision>25</cp:revision>
  <dc:subject/>
  <dc:title>3.1-Solving Equations by Adding and Subtracting</dc:title>
</cp:coreProperties>
</file>